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B725-717D-479C-86F5-3B1C6E78A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FB4B-005D-459B-BA11-20E8D42BD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57AB-52FE-41B3-B87A-19D9E1601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44BC-C842-467A-92FF-8D8D3591C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F3BE-F2A6-4EAE-A02D-A25960FBA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05AD-A79C-4AFC-9668-9B9CA8A09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6669-BAD4-46F5-B65F-9470F2D34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814D-8624-4A29-A6ED-EE6CD05A4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AB64-0E78-4314-BDA3-E39A90BC0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33A0-655B-404E-B919-71C2CD544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7E8C-2C2E-4E39-AA02-1C2532B6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31E0-8C84-4BC3-BB59-6122461D5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1BE91-8C40-4939-BDD7-3EEC57B8159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X-Stack (H.323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OLC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7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"/>
          <p:cNvSpPr/>
          <p:nvPr/>
        </p:nvSpPr>
        <p:spPr>
          <a:xfrm>
            <a:off x="2835360" y="1371600"/>
            <a:ext cx="898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Kill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0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"/>
          <p:cNvSpPr/>
          <p:nvPr/>
        </p:nvSpPr>
        <p:spPr>
          <a:xfrm>
            <a:off x="3733920" y="1600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"/>
          <p:cNvSpPr/>
          <p:nvPr/>
        </p:nvSpPr>
        <p:spPr>
          <a:xfrm>
            <a:off x="403848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3" name=""/>
          <p:cNvSpPr/>
          <p:nvPr/>
        </p:nvSpPr>
        <p:spPr>
          <a:xfrm>
            <a:off x="4114800" y="21337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"/>
          <p:cNvSpPr/>
          <p:nvPr/>
        </p:nvSpPr>
        <p:spPr>
          <a:xfrm>
            <a:off x="2971800" y="21337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"/>
          <p:cNvSpPr/>
          <p:nvPr/>
        </p:nvSpPr>
        <p:spPr>
          <a:xfrm>
            <a:off x="5486400" y="152388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6" name=""/>
          <p:cNvSpPr/>
          <p:nvPr/>
        </p:nvSpPr>
        <p:spPr>
          <a:xfrm>
            <a:off x="678168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"/>
          <p:cNvSpPr/>
          <p:nvPr/>
        </p:nvSpPr>
        <p:spPr>
          <a:xfrm>
            <a:off x="6781680" y="30481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ymm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0" y="3886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"/>
          <p:cNvSpPr/>
          <p:nvPr/>
        </p:nvSpPr>
        <p:spPr>
          <a:xfrm>
            <a:off x="5181480" y="3886200"/>
            <a:ext cx="12956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Symmet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"/>
          <p:cNvSpPr/>
          <p:nvPr/>
        </p:nvSpPr>
        <p:spPr>
          <a:xfrm>
            <a:off x="3581280" y="388620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Symmet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2" name=""/>
          <p:cNvSpPr/>
          <p:nvPr/>
        </p:nvSpPr>
        <p:spPr>
          <a:xfrm>
            <a:off x="2209680" y="3886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3" name=""/>
          <p:cNvSpPr/>
          <p:nvPr/>
        </p:nvSpPr>
        <p:spPr>
          <a:xfrm>
            <a:off x="5105520" y="1600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4" name=""/>
          <p:cNvSpPr/>
          <p:nvPr/>
        </p:nvSpPr>
        <p:spPr>
          <a:xfrm>
            <a:off x="6477120" y="1600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5" name=""/>
          <p:cNvSpPr/>
          <p:nvPr/>
        </p:nvSpPr>
        <p:spPr>
          <a:xfrm>
            <a:off x="731520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6" name=""/>
          <p:cNvSpPr/>
          <p:nvPr/>
        </p:nvSpPr>
        <p:spPr>
          <a:xfrm>
            <a:off x="457200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380952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1676520" y="22096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9" name=""/>
          <p:cNvSpPr/>
          <p:nvPr/>
        </p:nvSpPr>
        <p:spPr>
          <a:xfrm>
            <a:off x="731520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0" name=""/>
          <p:cNvSpPr/>
          <p:nvPr/>
        </p:nvSpPr>
        <p:spPr>
          <a:xfrm>
            <a:off x="7315200" y="3581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647712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480060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320040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3124080" y="23619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3123720" y="2666880"/>
            <a:ext cx="4038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3124080" y="327672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0" y="9907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7162920" y="1218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1676160" y="10666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0" name=""/>
          <p:cNvSpPr/>
          <p:nvPr/>
        </p:nvSpPr>
        <p:spPr>
          <a:xfrm>
            <a:off x="1692360" y="46483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1" name=""/>
          <p:cNvSpPr/>
          <p:nvPr/>
        </p:nvSpPr>
        <p:spPr>
          <a:xfrm>
            <a:off x="1692360" y="52578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2" name=""/>
          <p:cNvSpPr/>
          <p:nvPr/>
        </p:nvSpPr>
        <p:spPr>
          <a:xfrm>
            <a:off x="3292560" y="457200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OLC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3" name=""/>
          <p:cNvSpPr/>
          <p:nvPr/>
        </p:nvSpPr>
        <p:spPr>
          <a:xfrm>
            <a:off x="3292560" y="51814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4" name=""/>
          <p:cNvSpPr/>
          <p:nvPr/>
        </p:nvSpPr>
        <p:spPr>
          <a:xfrm>
            <a:off x="260676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5" name=""/>
          <p:cNvSpPr/>
          <p:nvPr/>
        </p:nvSpPr>
        <p:spPr>
          <a:xfrm>
            <a:off x="2530440" y="53341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5334120" y="44193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1692360" y="4419720"/>
            <a:ext cx="364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3825720" y="50288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1692360" y="502920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"/>
          <p:cNvSpPr/>
          <p:nvPr/>
        </p:nvSpPr>
        <p:spPr>
          <a:xfrm>
            <a:off x="1676520" y="59436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"/>
          <p:cNvSpPr/>
          <p:nvPr/>
        </p:nvSpPr>
        <p:spPr>
          <a:xfrm>
            <a:off x="3276720" y="586728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OLC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2" name=""/>
          <p:cNvSpPr/>
          <p:nvPr/>
        </p:nvSpPr>
        <p:spPr>
          <a:xfrm>
            <a:off x="2514600" y="6019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5334120" y="5714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1676520" y="571500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"/>
          <p:cNvSpPr/>
          <p:nvPr/>
        </p:nvSpPr>
        <p:spPr>
          <a:xfrm>
            <a:off x="4876920" y="457200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LC open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6" name=""/>
          <p:cNvSpPr/>
          <p:nvPr/>
        </p:nvSpPr>
        <p:spPr>
          <a:xfrm>
            <a:off x="4876920" y="586728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LC open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7" name=""/>
          <p:cNvSpPr/>
          <p:nvPr/>
        </p:nvSpPr>
        <p:spPr>
          <a:xfrm>
            <a:off x="426708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8" name=""/>
          <p:cNvSpPr/>
          <p:nvPr/>
        </p:nvSpPr>
        <p:spPr>
          <a:xfrm>
            <a:off x="4191120" y="59436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380880" y="228600"/>
            <a:ext cx="38102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– ESC, OLC Time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0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1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2" name=""/>
          <p:cNvSpPr/>
          <p:nvPr/>
        </p:nvSpPr>
        <p:spPr>
          <a:xfrm>
            <a:off x="1692360" y="19051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ES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3" name=""/>
          <p:cNvSpPr/>
          <p:nvPr/>
        </p:nvSpPr>
        <p:spPr>
          <a:xfrm>
            <a:off x="2530440" y="1981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4" name=""/>
          <p:cNvSpPr/>
          <p:nvPr/>
        </p:nvSpPr>
        <p:spPr>
          <a:xfrm>
            <a:off x="2819520" y="1600200"/>
            <a:ext cx="1143000" cy="7621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=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=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5" name=""/>
          <p:cNvSpPr/>
          <p:nvPr/>
        </p:nvSpPr>
        <p:spPr>
          <a:xfrm>
            <a:off x="4343400" y="19051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6" name=""/>
          <p:cNvSpPr/>
          <p:nvPr/>
        </p:nvSpPr>
        <p:spPr>
          <a:xfrm>
            <a:off x="39625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7" name=""/>
          <p:cNvSpPr/>
          <p:nvPr/>
        </p:nvSpPr>
        <p:spPr>
          <a:xfrm>
            <a:off x="53341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8" name=""/>
          <p:cNvSpPr/>
          <p:nvPr/>
        </p:nvSpPr>
        <p:spPr>
          <a:xfrm>
            <a:off x="5715000" y="19051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9" name=""/>
          <p:cNvSpPr/>
          <p:nvPr/>
        </p:nvSpPr>
        <p:spPr>
          <a:xfrm>
            <a:off x="1692360" y="3657600"/>
            <a:ext cx="1203120" cy="152280"/>
          </a:xfrm>
          <a:custGeom>
            <a:avLst/>
            <a:gdLst>
              <a:gd name="textAreaLeft" fmla="*/ 0 w 1203120"/>
              <a:gd name="textAreaRight" fmla="*/ 1203480 w 1203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ven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0" name=""/>
          <p:cNvSpPr/>
          <p:nvPr/>
        </p:nvSpPr>
        <p:spPr>
          <a:xfrm>
            <a:off x="5638680" y="251460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1" name=""/>
          <p:cNvSpPr/>
          <p:nvPr/>
        </p:nvSpPr>
        <p:spPr>
          <a:xfrm>
            <a:off x="4495680" y="251460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Ses =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2" name=""/>
          <p:cNvSpPr/>
          <p:nvPr/>
        </p:nvSpPr>
        <p:spPr>
          <a:xfrm>
            <a:off x="3352680" y="2362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1676520" y="28954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4" name=""/>
          <p:cNvSpPr/>
          <p:nvPr/>
        </p:nvSpPr>
        <p:spPr>
          <a:xfrm>
            <a:off x="617220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525780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3352320" y="26668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7" name=""/>
          <p:cNvSpPr/>
          <p:nvPr/>
        </p:nvSpPr>
        <p:spPr>
          <a:xfrm>
            <a:off x="3276720" y="35053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8" name=""/>
          <p:cNvSpPr/>
          <p:nvPr/>
        </p:nvSpPr>
        <p:spPr>
          <a:xfrm>
            <a:off x="4800600" y="35053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9" name=""/>
          <p:cNvSpPr/>
          <p:nvPr/>
        </p:nvSpPr>
        <p:spPr>
          <a:xfrm>
            <a:off x="6400800" y="36576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ut OL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0" name=""/>
          <p:cNvSpPr/>
          <p:nvPr/>
        </p:nvSpPr>
        <p:spPr>
          <a:xfrm>
            <a:off x="6400800" y="43434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1" name=""/>
          <p:cNvSpPr/>
          <p:nvPr/>
        </p:nvSpPr>
        <p:spPr>
          <a:xfrm>
            <a:off x="3352680" y="449568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2" name=""/>
          <p:cNvSpPr/>
          <p:nvPr/>
        </p:nvSpPr>
        <p:spPr>
          <a:xfrm>
            <a:off x="6400800" y="51055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3" name=""/>
          <p:cNvSpPr/>
          <p:nvPr/>
        </p:nvSpPr>
        <p:spPr>
          <a:xfrm>
            <a:off x="2895480" y="3733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4" name=""/>
          <p:cNvSpPr/>
          <p:nvPr/>
        </p:nvSpPr>
        <p:spPr>
          <a:xfrm>
            <a:off x="434340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5" name=""/>
          <p:cNvSpPr/>
          <p:nvPr/>
        </p:nvSpPr>
        <p:spPr>
          <a:xfrm>
            <a:off x="586728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6" name=""/>
          <p:cNvSpPr/>
          <p:nvPr/>
        </p:nvSpPr>
        <p:spPr>
          <a:xfrm>
            <a:off x="6858000" y="3886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7" name=""/>
          <p:cNvSpPr/>
          <p:nvPr/>
        </p:nvSpPr>
        <p:spPr>
          <a:xfrm>
            <a:off x="685800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1676160" y="5181480"/>
            <a:ext cx="4724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1676520" y="464832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0" name=""/>
          <p:cNvSpPr/>
          <p:nvPr/>
        </p:nvSpPr>
        <p:spPr>
          <a:xfrm>
            <a:off x="37339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1" name=""/>
          <p:cNvSpPr/>
          <p:nvPr/>
        </p:nvSpPr>
        <p:spPr>
          <a:xfrm>
            <a:off x="5334120" y="40384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73680" y="433440"/>
            <a:ext cx="102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3137400" y="89064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LockLi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3109680" y="134784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1075680" y="188136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Q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818520" y="1881360"/>
            <a:ext cx="106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Gatekeep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250600" y="1881360"/>
            <a:ext cx="93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Capab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6679440" y="188136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asWai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4615200" y="2362320"/>
            <a:ext cx="88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Endpoin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888440" y="276696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Call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521960" y="3224160"/>
            <a:ext cx="12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4466160" y="3757680"/>
            <a:ext cx="134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Maker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5408640" y="4062240"/>
            <a:ext cx="8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Clos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4461120" y="4443480"/>
            <a:ext cx="13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031400" y="231300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cpConne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107720" y="27194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ocke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744840" y="3124080"/>
            <a:ext cx="160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et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1105200" y="35352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et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2312640" y="238932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Tim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4384800" y="4951440"/>
            <a:ext cx="16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668840" y="548496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795200" y="59436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571500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685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581280" y="1143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3962520" y="1600200"/>
            <a:ext cx="30456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4038480" y="1600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4114800" y="1523880"/>
            <a:ext cx="281952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1752120" y="1523880"/>
            <a:ext cx="129564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1981080" y="2057400"/>
            <a:ext cx="3812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1523880" y="2133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25146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1523880" y="2971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495680" y="21337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257440" y="21337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5105520" y="2971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5105520" y="3505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48769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5715000" y="396252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714640" y="426708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4724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510552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105520" y="5715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971800" y="60958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2895480" y="1600200"/>
            <a:ext cx="53352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86000" y="266688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410080" y="3429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638320" y="2209680"/>
            <a:ext cx="129564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133720" y="3428640"/>
            <a:ext cx="236196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4920" y="838080"/>
            <a:ext cx="12189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83808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838080"/>
            <a:ext cx="1523880" cy="228600"/>
          </a:xfrm>
          <a:prstGeom prst="hexagon">
            <a:avLst>
              <a:gd name="adj" fmla="val 49379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13716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20574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gis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213372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2133720"/>
            <a:ext cx="1523880" cy="228600"/>
          </a:xfrm>
          <a:prstGeom prst="hexagon">
            <a:avLst>
              <a:gd name="adj" fmla="val 49379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800600" y="213372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Y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952880" y="13716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14479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DRQ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>
            <a:off x="6324480" y="2133720"/>
            <a:ext cx="1067040" cy="228600"/>
          </a:xfrm>
          <a:prstGeom prst="hexagon">
            <a:avLst>
              <a:gd name="adj" fmla="val 34576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19810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6629400" y="31240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7238880" y="3276720"/>
            <a:ext cx="1067040" cy="15228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>
            <a:off x="7086600" y="30481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rot="10800000">
            <a:off x="5943600" y="35812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10800000">
            <a:off x="5562360" y="304776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5400000">
            <a:off x="6247800" y="4267080"/>
            <a:ext cx="1371600" cy="1522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6019920"/>
            <a:ext cx="10666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6781680" y="541008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7543800" y="617220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>
            <a:off x="7391520" y="59436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>
            <a:off x="7848720" y="54100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10800000">
            <a:off x="5866920" y="647676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rot="10800000">
            <a:off x="5486040" y="594324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304812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4191120" y="6248520"/>
            <a:ext cx="3808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59436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419112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365760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685440" y="4495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227880" y="457200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60958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 rot="10800000">
            <a:off x="2285640" y="6095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rot="10800000">
            <a:off x="1981080" y="63244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2705040" y="52956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523520" y="9144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742840" y="914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10080" y="914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4572000" y="914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781680" y="11426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486400" y="11430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410080" y="1752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>
            <a:off x="6019920" y="2209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6934320" y="23623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7924680" y="31240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>
            <a:off x="8686800" y="312408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8305920" y="3352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8610480" y="56386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8229600" y="601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934320" y="5029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934320" y="563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>
            <a:off x="7162920" y="54864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572000" y="65530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952880" y="6019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952880" y="32767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105520" y="3124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343040" y="36576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>
            <a:off x="4343400" y="3657600"/>
            <a:ext cx="0" cy="259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327672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3352680" y="31240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504960" y="63244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447920" y="61722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1447560" y="64008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51814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49528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2209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>
            <a:off x="274320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2209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362320" y="1752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362320" y="10663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>
            <a:off x="2819520" y="15238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3657600" y="1523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15238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4495680" y="25146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876920" y="27428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990720" y="6629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990720" y="64767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1295280" y="4267080"/>
            <a:ext cx="1828800" cy="1828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ing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990360" y="312408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990720" y="3124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80880" y="83808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1905120" y="83808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838080"/>
            <a:ext cx="1524240" cy="228600"/>
          </a:xfrm>
          <a:prstGeom prst="hexagon">
            <a:avLst>
              <a:gd name="adj" fmla="val 4939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1600200" y="914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819520" y="9144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236232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CCEP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22096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362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Mak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>
            <a:off x="3657600" y="22096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6200000">
            <a:off x="3619440" y="156168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26668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>
            <a:off x="6705720" y="25909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gis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6705720" y="1752480"/>
            <a:ext cx="914400" cy="38124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791320" y="2666880"/>
            <a:ext cx="3808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>
            <a:off x="6553080" y="380988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 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>
            <a:off x="6629400" y="533412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0" y="5791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7924680" y="403848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4876920" y="56386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rot="10800000">
            <a:off x="3809880" y="58672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2819520" y="4876920"/>
            <a:ext cx="9144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 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2743200" y="426708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502920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FACILITY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380880" y="335268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rot="5400000">
            <a:off x="608760" y="4114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 rot="5400000">
            <a:off x="152280" y="434304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58672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49528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990720" y="4572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5410080" y="18288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4952880" y="42670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4686120" y="499032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5067360" y="499068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2895480" y="579132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133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3276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533412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5943600" y="2057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324120" y="1905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7162920" y="2133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743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7162920" y="29718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7620120" y="4114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7162920" y="4495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>
            <a:off x="7162920" y="5562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5943600" y="58672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429000" y="5943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276720" y="54097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259056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3276720" y="44953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7543800" y="19051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7924680" y="19051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7162920" y="3352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8077320" y="4267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7162920" y="48006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981080" y="4800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1981080" y="480060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ed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276720" y="35809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990720" y="35812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457200" y="228600"/>
            <a:ext cx="1905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76212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H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4724280" y="76212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1828800"/>
            <a:ext cx="1218960" cy="228600"/>
          </a:xfrm>
          <a:prstGeom prst="hexagon">
            <a:avLst>
              <a:gd name="adj" fmla="val 3949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ES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1219320" y="2362320"/>
            <a:ext cx="1218960" cy="228600"/>
          </a:xfrm>
          <a:prstGeom prst="hexagon">
            <a:avLst>
              <a:gd name="adj" fmla="val 3949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>
            <a:off x="2971800" y="99072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2971800" y="175248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198108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DRQ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>
            <a:off x="6781680" y="99072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6324480" y="1676520"/>
            <a:ext cx="1676520" cy="228600"/>
          </a:xfrm>
          <a:prstGeom prst="hexagon">
            <a:avLst>
              <a:gd name="adj" fmla="val 54325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6400800" y="236232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40384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4800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>
            <a:off x="1219320" y="55627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55627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971800" y="495288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4952880" y="42670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>
            <a:off x="6019920" y="4343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4800600" y="502920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6019920" y="5105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6400800" y="419112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Session = FAL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6324480" y="502920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Except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54864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1066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2362320" y="10666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1752480" y="1447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1752480" y="2057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581280" y="1219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4479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5867280" y="10666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7162920" y="1219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7162920" y="1905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5257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" y="4343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533160" y="5867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1676520" y="4495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1676520" y="52578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2362320" y="434340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2362320" y="5791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3276720" y="5181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276720" y="4343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2514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2666880" y="1066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4495680" y="10663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4495680" y="1066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4191120" y="1828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>
            <a:off x="5715000" y="2057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6019920" y="10666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2362320" y="5029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2743200" y="43430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809880" y="5791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3962520" y="43434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" y="609480"/>
            <a:ext cx="7467480" cy="25909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4495680" y="3886200"/>
            <a:ext cx="3657600" cy="8380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4495680" y="4876920"/>
            <a:ext cx="3657600" cy="137160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685800" y="3886200"/>
            <a:ext cx="3429000" cy="2362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57200" y="3505320"/>
            <a:ext cx="762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4102560" y="408924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411120" y="56228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>
            <a:off x="4854960" y="5851440"/>
            <a:ext cx="2804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te :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정상적인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ocket Close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netDemon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에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이미 처리될 것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45720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DC245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(discharge H.245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914400" y="68580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=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=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914400" y="16002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486400" y="9144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0384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Make Q93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5486400" y="16765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809880" y="106668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5562720" y="2514600"/>
            <a:ext cx="1447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lude H.245 Control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Q931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2514600"/>
            <a:ext cx="13716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h.245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Se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41911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7238880" y="4495680"/>
            <a:ext cx="6858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1905120" y="3429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50292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114800" y="4495680"/>
            <a:ext cx="1371600" cy="15264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5486400" y="4572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>
            <a:off x="4114800" y="5029200"/>
            <a:ext cx="1295280" cy="1522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ACCEP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533520" y="358128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600200" y="3657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609480" y="51814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1676520" y="52578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" y="1066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2057400" y="10666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1295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1371600" y="2057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2286000" y="1066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3276720" y="1143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57913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541008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563868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5867280" y="4419720"/>
            <a:ext cx="7621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6629400" y="45720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952880" y="11430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>
            <a:off x="6629400" y="1143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5867280" y="1371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>
            <a:off x="586728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7010280" y="11430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>
            <a:off x="19051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553080" y="1981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2438280" y="3962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2362320" y="5486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>
            <a:off x="3048120" y="36576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>
            <a:off x="3048120" y="52578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2895480" y="44197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3276720" y="36572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2895480" y="601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3276720" y="52574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320040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TC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"/>
          <p:cNvSpPr/>
          <p:nvPr/>
        </p:nvSpPr>
        <p:spPr>
          <a:xfrm>
            <a:off x="1692360" y="37339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"/>
          <p:cNvSpPr/>
          <p:nvPr/>
        </p:nvSpPr>
        <p:spPr>
          <a:xfrm>
            <a:off x="1692360" y="44956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"/>
          <p:cNvSpPr/>
          <p:nvPr/>
        </p:nvSpPr>
        <p:spPr>
          <a:xfrm>
            <a:off x="1692360" y="51055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"/>
          <p:cNvSpPr/>
          <p:nvPr/>
        </p:nvSpPr>
        <p:spPr>
          <a:xfrm>
            <a:off x="2835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TCS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"/>
          <p:cNvSpPr/>
          <p:nvPr/>
        </p:nvSpPr>
        <p:spPr>
          <a:xfrm>
            <a:off x="534996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"/>
          <p:cNvSpPr/>
          <p:nvPr/>
        </p:nvSpPr>
        <p:spPr>
          <a:xfrm>
            <a:off x="3978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"/>
          <p:cNvSpPr/>
          <p:nvPr/>
        </p:nvSpPr>
        <p:spPr>
          <a:xfrm>
            <a:off x="679752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"/>
          <p:cNvSpPr/>
          <p:nvPr/>
        </p:nvSpPr>
        <p:spPr>
          <a:xfrm>
            <a:off x="5807160" y="236232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0" name=""/>
          <p:cNvSpPr/>
          <p:nvPr/>
        </p:nvSpPr>
        <p:spPr>
          <a:xfrm>
            <a:off x="428292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recv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"/>
          <p:cNvSpPr/>
          <p:nvPr/>
        </p:nvSpPr>
        <p:spPr>
          <a:xfrm>
            <a:off x="4435560" y="3048120"/>
            <a:ext cx="1066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ar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2" name=""/>
          <p:cNvSpPr/>
          <p:nvPr/>
        </p:nvSpPr>
        <p:spPr>
          <a:xfrm>
            <a:off x="5425920" y="914400"/>
            <a:ext cx="8384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"/>
          <p:cNvSpPr/>
          <p:nvPr/>
        </p:nvSpPr>
        <p:spPr>
          <a:xfrm>
            <a:off x="3292560" y="365760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TCS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4" name=""/>
          <p:cNvSpPr/>
          <p:nvPr/>
        </p:nvSpPr>
        <p:spPr>
          <a:xfrm>
            <a:off x="3292560" y="441972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TCS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5" name=""/>
          <p:cNvSpPr/>
          <p:nvPr/>
        </p:nvSpPr>
        <p:spPr>
          <a:xfrm>
            <a:off x="2987640" y="510552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TCS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6" name=""/>
          <p:cNvSpPr/>
          <p:nvPr/>
        </p:nvSpPr>
        <p:spPr>
          <a:xfrm>
            <a:off x="4206960" y="48769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7" name=""/>
          <p:cNvSpPr/>
          <p:nvPr/>
        </p:nvSpPr>
        <p:spPr>
          <a:xfrm>
            <a:off x="5578560" y="48769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8" name=""/>
          <p:cNvSpPr/>
          <p:nvPr/>
        </p:nvSpPr>
        <p:spPr>
          <a:xfrm>
            <a:off x="7102440" y="5029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ar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9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0" name=""/>
          <p:cNvSpPr/>
          <p:nvPr/>
        </p:nvSpPr>
        <p:spPr>
          <a:xfrm>
            <a:off x="3673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1" name=""/>
          <p:cNvSpPr/>
          <p:nvPr/>
        </p:nvSpPr>
        <p:spPr>
          <a:xfrm>
            <a:off x="687384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2" name=""/>
          <p:cNvSpPr/>
          <p:nvPr/>
        </p:nvSpPr>
        <p:spPr>
          <a:xfrm>
            <a:off x="3063960" y="23623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3" name=""/>
          <p:cNvSpPr/>
          <p:nvPr/>
        </p:nvSpPr>
        <p:spPr>
          <a:xfrm>
            <a:off x="4816440" y="1600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4" name=""/>
          <p:cNvSpPr/>
          <p:nvPr/>
        </p:nvSpPr>
        <p:spPr>
          <a:xfrm>
            <a:off x="6416640" y="1600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5" name=""/>
          <p:cNvSpPr/>
          <p:nvPr/>
        </p:nvSpPr>
        <p:spPr>
          <a:xfrm>
            <a:off x="7331040" y="19051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5959440" y="1142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1692000" y="99072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7331040" y="990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6264000" y="9907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0" name=""/>
          <p:cNvSpPr/>
          <p:nvPr/>
        </p:nvSpPr>
        <p:spPr>
          <a:xfrm>
            <a:off x="801684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8169120" y="12193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7331040" y="12193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66448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5273640" y="2514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3902040" y="2514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1692360" y="25146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3521160" y="32004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8" name=""/>
          <p:cNvSpPr/>
          <p:nvPr/>
        </p:nvSpPr>
        <p:spPr>
          <a:xfrm>
            <a:off x="4816440" y="2743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3521160" y="25905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0" name=""/>
          <p:cNvSpPr/>
          <p:nvPr/>
        </p:nvSpPr>
        <p:spPr>
          <a:xfrm>
            <a:off x="2606760" y="3809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1" name=""/>
          <p:cNvSpPr/>
          <p:nvPr/>
        </p:nvSpPr>
        <p:spPr>
          <a:xfrm>
            <a:off x="2530440" y="4572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3825720" y="35049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1692360" y="35053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3825720" y="42670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1692360" y="42670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6" name=""/>
          <p:cNvSpPr/>
          <p:nvPr/>
        </p:nvSpPr>
        <p:spPr>
          <a:xfrm>
            <a:off x="260676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7" name=""/>
          <p:cNvSpPr/>
          <p:nvPr/>
        </p:nvSpPr>
        <p:spPr>
          <a:xfrm>
            <a:off x="390204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"/>
          <p:cNvSpPr/>
          <p:nvPr/>
        </p:nvSpPr>
        <p:spPr>
          <a:xfrm>
            <a:off x="527364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"/>
          <p:cNvSpPr/>
          <p:nvPr/>
        </p:nvSpPr>
        <p:spPr>
          <a:xfrm>
            <a:off x="6645240" y="5181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0" name=""/>
          <p:cNvSpPr/>
          <p:nvPr/>
        </p:nvSpPr>
        <p:spPr>
          <a:xfrm>
            <a:off x="4740120" y="5410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1692360" y="594360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"/>
          <p:cNvSpPr/>
          <p:nvPr/>
        </p:nvSpPr>
        <p:spPr>
          <a:xfrm>
            <a:off x="6035760" y="5334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4739760" y="579132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"/>
          <p:cNvSpPr/>
          <p:nvPr/>
        </p:nvSpPr>
        <p:spPr>
          <a:xfrm>
            <a:off x="7635960" y="5257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6035400" y="55627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MS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9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0" name=""/>
          <p:cNvSpPr/>
          <p:nvPr/>
        </p:nvSpPr>
        <p:spPr>
          <a:xfrm>
            <a:off x="1692360" y="2895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1" name=""/>
          <p:cNvSpPr/>
          <p:nvPr/>
        </p:nvSpPr>
        <p:spPr>
          <a:xfrm>
            <a:off x="1692360" y="39625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2" name=""/>
          <p:cNvSpPr/>
          <p:nvPr/>
        </p:nvSpPr>
        <p:spPr>
          <a:xfrm>
            <a:off x="1692360" y="48006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3" name=""/>
          <p:cNvSpPr/>
          <p:nvPr/>
        </p:nvSpPr>
        <p:spPr>
          <a:xfrm>
            <a:off x="2835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MSD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4" name=""/>
          <p:cNvSpPr/>
          <p:nvPr/>
        </p:nvSpPr>
        <p:spPr>
          <a:xfrm>
            <a:off x="3292560" y="281952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MSD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5" name=""/>
          <p:cNvSpPr/>
          <p:nvPr/>
        </p:nvSpPr>
        <p:spPr>
          <a:xfrm>
            <a:off x="3292560" y="388620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MSD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6" name=""/>
          <p:cNvSpPr/>
          <p:nvPr/>
        </p:nvSpPr>
        <p:spPr>
          <a:xfrm>
            <a:off x="2987640" y="480060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MSD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7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8" name=""/>
          <p:cNvSpPr/>
          <p:nvPr/>
        </p:nvSpPr>
        <p:spPr>
          <a:xfrm>
            <a:off x="3673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9" name=""/>
          <p:cNvSpPr/>
          <p:nvPr/>
        </p:nvSpPr>
        <p:spPr>
          <a:xfrm>
            <a:off x="2606760" y="29718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0" name=""/>
          <p:cNvSpPr/>
          <p:nvPr/>
        </p:nvSpPr>
        <p:spPr>
          <a:xfrm>
            <a:off x="2530440" y="40384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3825720" y="26668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1692360" y="26668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38257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1692360" y="37339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"/>
          <p:cNvSpPr/>
          <p:nvPr/>
        </p:nvSpPr>
        <p:spPr>
          <a:xfrm>
            <a:off x="260676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6" name=""/>
          <p:cNvSpPr/>
          <p:nvPr/>
        </p:nvSpPr>
        <p:spPr>
          <a:xfrm>
            <a:off x="390204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7" name=""/>
          <p:cNvSpPr/>
          <p:nvPr/>
        </p:nvSpPr>
        <p:spPr>
          <a:xfrm>
            <a:off x="3962520" y="1523880"/>
            <a:ext cx="1066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termine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8" name=""/>
          <p:cNvSpPr/>
          <p:nvPr/>
        </p:nvSpPr>
        <p:spPr>
          <a:xfrm>
            <a:off x="533412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9" name=""/>
          <p:cNvSpPr/>
          <p:nvPr/>
        </p:nvSpPr>
        <p:spPr>
          <a:xfrm>
            <a:off x="502920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0" name=""/>
          <p:cNvSpPr/>
          <p:nvPr/>
        </p:nvSpPr>
        <p:spPr>
          <a:xfrm>
            <a:off x="6477120" y="152388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1" name=""/>
          <p:cNvSpPr/>
          <p:nvPr/>
        </p:nvSpPr>
        <p:spPr>
          <a:xfrm>
            <a:off x="617220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2" name=""/>
          <p:cNvSpPr/>
          <p:nvPr/>
        </p:nvSpPr>
        <p:spPr>
          <a:xfrm>
            <a:off x="6858000" y="1752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1676160" y="19810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4" name=""/>
          <p:cNvSpPr/>
          <p:nvPr/>
        </p:nvSpPr>
        <p:spPr>
          <a:xfrm>
            <a:off x="4206960" y="4572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5" name=""/>
          <p:cNvSpPr/>
          <p:nvPr/>
        </p:nvSpPr>
        <p:spPr>
          <a:xfrm>
            <a:off x="5638680" y="4572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mpare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6" name=""/>
          <p:cNvSpPr/>
          <p:nvPr/>
        </p:nvSpPr>
        <p:spPr>
          <a:xfrm>
            <a:off x="7086600" y="47242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7" name=""/>
          <p:cNvSpPr/>
          <p:nvPr/>
        </p:nvSpPr>
        <p:spPr>
          <a:xfrm>
            <a:off x="5257800" y="4876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8" name=""/>
          <p:cNvSpPr/>
          <p:nvPr/>
        </p:nvSpPr>
        <p:spPr>
          <a:xfrm>
            <a:off x="670572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9" name=""/>
          <p:cNvSpPr/>
          <p:nvPr/>
        </p:nvSpPr>
        <p:spPr>
          <a:xfrm>
            <a:off x="4724280" y="5105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1676520" y="563868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1" name=""/>
          <p:cNvSpPr/>
          <p:nvPr/>
        </p:nvSpPr>
        <p:spPr>
          <a:xfrm>
            <a:off x="6172200" y="51055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4724280" y="548640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"/>
          <p:cNvSpPr/>
          <p:nvPr/>
        </p:nvSpPr>
        <p:spPr>
          <a:xfrm>
            <a:off x="7543800" y="4952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6172200" y="53341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6:45:02Z</dcterms:created>
  <dc:creator>gom</dc:creator>
  <dc:description/>
  <dc:language>en-US</dc:language>
  <cp:lastModifiedBy>gom</cp:lastModifiedBy>
  <dcterms:modified xsi:type="dcterms:W3CDTF">2005-10-21T12:58:17Z</dcterms:modified>
  <cp:revision>23</cp:revision>
  <dc:subject/>
  <dc:title>PowerPoint 프레젠테이션</dc:title>
</cp:coreProperties>
</file>